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52D6-6696-4B66-9D99-22C72B7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A6C-FC4F-439B-96A5-D3CB544D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FCD-BAAB-43A4-A81E-00E55FE5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6125-4441-48C3-990E-38C475AF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407-A1CE-4A4C-A8B7-CFD625DF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F5B-954B-43DB-8060-0A9609AE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B20-53DD-4619-ABEC-A6C24D04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CFD1-B0EA-43DC-A0FD-9A30DC4D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3F7-2BCE-4FAF-A878-17A37507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FBD-37C7-4BED-B1EE-7DBDF13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893A-E7BD-49A6-8A96-2AF6BF1A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FD24-42C3-4456-9001-1602523C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44C-6B05-47A0-BB62-218938944B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MCC"/>
          <p:cNvPicPr/>
          <p:nvPr/>
        </p:nvPicPr>
        <p:blipFill>
          <a:blip r:embed="rId1"/>
          <a:stretch/>
        </p:blipFill>
        <p:spPr>
          <a:xfrm>
            <a:off x="-324000" y="403200"/>
            <a:ext cx="5843880" cy="54198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8"/>
          <p:cNvGrpSpPr/>
          <p:nvPr/>
        </p:nvGrpSpPr>
        <p:grpSpPr>
          <a:xfrm>
            <a:off x="5591160" y="1701720"/>
            <a:ext cx="3012840" cy="2395440"/>
            <a:chOff x="5591160" y="1701720"/>
            <a:chExt cx="3012840" cy="2395440"/>
          </a:xfrm>
        </p:grpSpPr>
        <p:grpSp>
          <p:nvGrpSpPr>
            <p:cNvPr id="43" name="Group 17"/>
            <p:cNvGrpSpPr/>
            <p:nvPr/>
          </p:nvGrpSpPr>
          <p:grpSpPr>
            <a:xfrm>
              <a:off x="5591160" y="1701720"/>
              <a:ext cx="3012840" cy="2395440"/>
              <a:chOff x="5591160" y="1701720"/>
              <a:chExt cx="3012840" cy="2395440"/>
            </a:xfrm>
          </p:grpSpPr>
          <p:sp>
            <p:nvSpPr>
              <p:cNvPr id="44" name="Rectangle 2"/>
              <p:cNvSpPr/>
              <p:nvPr/>
            </p:nvSpPr>
            <p:spPr>
              <a:xfrm>
                <a:off x="5591160" y="1701720"/>
                <a:ext cx="1527120" cy="23954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Rectangle 3"/>
              <p:cNvSpPr/>
              <p:nvPr/>
            </p:nvSpPr>
            <p:spPr>
              <a:xfrm>
                <a:off x="7076880" y="1701720"/>
                <a:ext cx="1527120" cy="2395440"/>
              </a:xfrm>
              <a:prstGeom prst="rect">
                <a:avLst/>
              </a:prstGeom>
              <a:solidFill>
                <a:srgbClr val="cccc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Pie 5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4979" y="0"/>
                    </a:moveTo>
                    <a:cubicBezTo>
                      <a:pt x="6768" y="-8"/>
                      <a:pt x="8425" y="941"/>
                      <a:pt x="9324" y="2488"/>
                    </a:cubicBezTo>
                    <a:cubicBezTo>
                      <a:pt x="10223" y="4035"/>
                      <a:pt x="10227" y="5944"/>
                      <a:pt x="9335" y="7495"/>
                    </a:cubicBezTo>
                    <a:cubicBezTo>
                      <a:pt x="8443" y="9046"/>
                      <a:pt x="6790" y="10002"/>
                      <a:pt x="5000" y="10002"/>
                    </a:cubicBezTo>
                    <a:cubicBezTo>
                      <a:pt x="5000" y="8335"/>
                      <a:pt x="5001" y="6668"/>
                      <a:pt x="5001" y="5001"/>
                    </a:cubicBezTo>
                    <a:cubicBezTo>
                      <a:pt x="4994" y="3334"/>
                      <a:pt x="4986" y="1667"/>
                      <a:pt x="4979" y="0"/>
                    </a:cubicBezTo>
                    <a:close/>
                  </a:path>
                </a:pathLst>
              </a:custGeom>
              <a:solidFill>
                <a:srgbClr val="ef37f1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Pie 6"/>
              <p:cNvSpPr/>
              <p:nvPr/>
            </p:nvSpPr>
            <p:spPr>
              <a:xfrm>
                <a:off x="6098760" y="2131920"/>
                <a:ext cx="1968480" cy="16653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5021" y="10000"/>
                    </a:moveTo>
                    <a:cubicBezTo>
                      <a:pt x="3232" y="10008"/>
                      <a:pt x="1574" y="9060"/>
                      <a:pt x="675" y="7513"/>
                    </a:cubicBezTo>
                    <a:cubicBezTo>
                      <a:pt x="-224" y="5966"/>
                      <a:pt x="-229" y="4056"/>
                      <a:pt x="664" y="2505"/>
                    </a:cubicBezTo>
                    <a:cubicBezTo>
                      <a:pt x="1556" y="954"/>
                      <a:pt x="3209" y="-2"/>
                      <a:pt x="4999" y="-2"/>
                    </a:cubicBezTo>
                    <a:cubicBezTo>
                      <a:pt x="5000" y="1666"/>
                      <a:pt x="5000" y="3333"/>
                      <a:pt x="5001" y="5001"/>
                    </a:cubicBezTo>
                    <a:cubicBezTo>
                      <a:pt x="5008" y="6667"/>
                      <a:pt x="5014" y="8334"/>
                      <a:pt x="5021" y="10000"/>
                    </a:cubicBezTo>
                    <a:close/>
                  </a:path>
                </a:pathLst>
              </a:custGeom>
              <a:solidFill>
                <a:srgbClr val="92d05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Text Box 7"/>
            <p:cNvSpPr/>
            <p:nvPr/>
          </p:nvSpPr>
          <p:spPr>
            <a:xfrm>
              <a:off x="583596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8"/>
            <p:cNvSpPr/>
            <p:nvPr/>
          </p:nvSpPr>
          <p:spPr>
            <a:xfrm>
              <a:off x="634968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7205040" y="273384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7635600" y="1869480"/>
              <a:ext cx="75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9" descr="CodeCogsEqn"/>
          <p:cNvPicPr/>
          <p:nvPr/>
        </p:nvPicPr>
        <p:blipFill>
          <a:blip r:embed="rId2"/>
          <a:stretch/>
        </p:blipFill>
        <p:spPr>
          <a:xfrm>
            <a:off x="3203640" y="5243400"/>
            <a:ext cx="5508720" cy="561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5519880" y="981000"/>
            <a:ext cx="16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ve binding site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5551560" y="4508640"/>
            <a:ext cx="22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icted 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4"/>
          <p:cNvCxnSpPr>
            <a:stCxn id="54" idx="0"/>
          </p:cNvCxnSpPr>
          <p:nvPr/>
        </p:nvCxnSpPr>
        <p:spPr>
          <a:xfrm flipV="1">
            <a:off x="6696000" y="3428280"/>
            <a:ext cx="406800" cy="108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02:00:40Z</dcterms:created>
  <dc:creator> </dc:creator>
  <dc:description/>
  <cp:keywords/>
  <dc:language>en-US</dc:language>
  <cp:lastModifiedBy>dell</cp:lastModifiedBy>
  <dcterms:modified xsi:type="dcterms:W3CDTF">2017-02-01T04:33:55Z</dcterms:modified>
  <cp:revision>17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1.0.5672</vt:lpwstr>
  </property>
</Properties>
</file>